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jpeg" ContentType="image/jpeg"/>
  <Override PartName="/ppt/media/image3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wmf" ContentType="image/x-wmf"/>
  <Override PartName="/ppt/media/image11.wmf" ContentType="image/x-wmf"/>
  <Override PartName="/ppt/media/image8.wmf" ContentType="image/x-wmf"/>
  <Override PartName="/ppt/media/image9.wmf" ContentType="image/x-wmf"/>
  <Override PartName="/ppt/media/image12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1B153-3B4A-498C-ADDE-A2654181E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5B05E-915D-4851-AD99-6F707A1CF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EBA90-7F4E-423E-89BC-8E2B625BC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75FAE-B45E-406D-8EE8-9D28501D5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1DE5B-DD52-483B-BCE5-3E58FC342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760F2-EB1C-4E8F-9E7D-E73CF89B4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AF3D6-8E92-47F7-A1F3-52DE51540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335D8-1242-414F-8540-5506580F5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AD1C2-8242-4692-BA79-34CC16448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A0AF1-435E-4E68-8A99-4C7A97D9F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1263F-5BEA-45B7-B834-CE336AA73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7EC7C-9AA7-474F-9135-0E64A1F9F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DEF51-B374-4D7A-BFEA-623F517C3E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"/>
              </a:rPr>
              <a:t>Riv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685800" y="3765600"/>
          <a:ext cx="3809880" cy="546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3765600"/>
                    <a:ext cx="3809880" cy="5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" name=""/>
          <p:cNvSpPr/>
          <p:nvPr/>
        </p:nvSpPr>
        <p:spPr>
          <a:xfrm>
            <a:off x="1143000" y="1752480"/>
            <a:ext cx="66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Lucida Sans"/>
              </a:rPr>
              <a:t>Rop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3352680" y="2971800"/>
            <a:ext cx="234000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219320" y="24382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286000" y="24382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352680" y="24382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343400" y="24382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334120" y="24382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324480" y="24382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391520" y="24382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508040" y="1905120"/>
            <a:ext cx="41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2590200" y="1905120"/>
            <a:ext cx="21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565440" y="1905120"/>
            <a:ext cx="33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572000" y="1905120"/>
            <a:ext cx="62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640840" y="1905120"/>
            <a:ext cx="3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613560" y="1905120"/>
            <a:ext cx="38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696080" y="1905120"/>
            <a:ext cx="62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3124080" y="2743200"/>
            <a:ext cx="289584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1447920" y="24382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438280" y="24382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429000" y="24382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419720" y="24382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6400" y="24382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553080" y="24382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620120" y="24382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736640" y="1828800"/>
            <a:ext cx="41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651040" y="1905120"/>
            <a:ext cx="38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18080" y="1905120"/>
            <a:ext cx="33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784760" y="1905120"/>
            <a:ext cx="41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93120" y="1905120"/>
            <a:ext cx="3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42160" y="1905120"/>
            <a:ext cx="38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908840" y="1905120"/>
            <a:ext cx="41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3048120" y="2908440"/>
            <a:ext cx="3504960" cy="29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76212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59092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26708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10552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94360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38080" y="2057400"/>
            <a:ext cx="38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666880" y="2057400"/>
            <a:ext cx="41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81280" y="2057400"/>
            <a:ext cx="41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419720" y="2057400"/>
            <a:ext cx="38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81480" y="2057400"/>
            <a:ext cx="31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828800" y="2057400"/>
            <a:ext cx="71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095880" y="2057400"/>
            <a:ext cx="31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362320" y="2895480"/>
            <a:ext cx="260964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67652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59092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41972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41008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830600" y="2057400"/>
            <a:ext cx="3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745000" y="20574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573800" y="2057400"/>
            <a:ext cx="38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564160" y="20574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733920" y="2057400"/>
            <a:ext cx="41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32448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539400" y="2025720"/>
            <a:ext cx="3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2971800" y="3076560"/>
            <a:ext cx="2971800" cy="29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5867280" y="25146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25146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038480" y="25146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029200" y="25146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362320" y="1981080"/>
            <a:ext cx="38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2200" y="198108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192920" y="1981080"/>
            <a:ext cx="33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181480" y="1981080"/>
            <a:ext cx="37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209680" y="25146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156360" y="1981080"/>
            <a:ext cx="38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3200400" y="2971800"/>
            <a:ext cx="21718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83808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67652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43828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03848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80060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56272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54080" y="20574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990720" y="2057400"/>
            <a:ext cx="38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830600" y="2057400"/>
            <a:ext cx="53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669040" y="2057400"/>
            <a:ext cx="3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430800" y="2057400"/>
            <a:ext cx="3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269240" y="2057400"/>
            <a:ext cx="3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716800" y="2057400"/>
            <a:ext cx="3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32448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8660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478920" y="2057400"/>
            <a:ext cx="38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240680" y="20574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089680" y="2057400"/>
            <a:ext cx="38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286000" y="2971800"/>
            <a:ext cx="3722760" cy="32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6212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52388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28600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04812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80988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64832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41008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30040" y="2057400"/>
            <a:ext cx="35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914400" y="2057400"/>
            <a:ext cx="41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362320" y="2057400"/>
            <a:ext cx="41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202200" y="2057400"/>
            <a:ext cx="38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040280" y="20574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724280" y="2057400"/>
            <a:ext cx="53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564160" y="20574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600200" y="2025720"/>
            <a:ext cx="54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209680" y="2819520"/>
            <a:ext cx="29149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98108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819520" y="259092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50532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26708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10552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447920" y="2057400"/>
            <a:ext cx="183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05360" y="2057400"/>
            <a:ext cx="3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897280" y="20574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2057400"/>
            <a:ext cx="5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182920" y="2057400"/>
            <a:ext cx="35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021360" y="20574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842160" y="2025720"/>
            <a:ext cx="183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421520" y="2057400"/>
            <a:ext cx="38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2514600" y="2895480"/>
            <a:ext cx="3429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259092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42900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34340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5780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050840" y="2025720"/>
            <a:ext cx="184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813040" y="2057400"/>
            <a:ext cx="51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643200" y="202572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420800" y="205740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410080" y="205740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985160" y="2025720"/>
            <a:ext cx="183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676520" y="25909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95880" y="25909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812960" y="2057400"/>
            <a:ext cx="38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461280" y="2057400"/>
            <a:ext cx="33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010280" y="25909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223040" y="2057400"/>
            <a:ext cx="41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3057480" y="3048120"/>
            <a:ext cx="318924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74320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58128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41972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25780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219320" y="2057400"/>
            <a:ext cx="183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735720" y="2057400"/>
            <a:ext cx="3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573440" y="2057400"/>
            <a:ext cx="35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411880" y="20574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670960" y="2025720"/>
            <a:ext cx="183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955960" y="2057400"/>
            <a:ext cx="47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828800" y="25909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90720" y="25909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010280" y="25909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095880" y="25909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219320" y="2057400"/>
            <a:ext cx="47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057400" y="2057400"/>
            <a:ext cx="53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232680" y="2057400"/>
            <a:ext cx="38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162920" y="2057400"/>
            <a:ext cx="54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2514600" y="3200400"/>
            <a:ext cx="3581280" cy="313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1T14:57:18Z</dcterms:created>
  <dc:creator>New User</dc:creator>
  <dc:description/>
  <dc:language>en-US</dc:language>
  <cp:lastModifiedBy>Rutherford County Schools</cp:lastModifiedBy>
  <dcterms:modified xsi:type="dcterms:W3CDTF">2007-04-21T15:51:26Z</dcterms:modified>
  <cp:revision>20</cp:revision>
  <dc:subject/>
  <dc:title>Rivet</dc:title>
</cp:coreProperties>
</file>